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21C1-EFF0-47E2-B66F-2394BEDDC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CB13-EB81-4472-96EF-178DC18D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EE80-1679-4CE9-9E67-54B58D7D8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7B70-2401-47C6-BDD3-B63018F3F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462D-8166-432E-8943-76DF980C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034D-3797-44BE-BFF7-4D8688CF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1A75-3E7E-4E47-855D-0611D073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111E-CCE1-4A38-9034-C97E2D43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9C0A-E00A-4742-B1A3-D3C66448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11CD-E4DB-42D3-BD5E-63AF81A3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8CF6-3327-4E4F-8596-7203680E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E8E5-9D42-40FB-9EAC-1D302BE8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C61A-54E9-4325-890C-2FEC27772E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D6D4-791D-4B74-8C85-197CC6A01B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383600" y="3333600"/>
            <a:ext cx="1760400" cy="3524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30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PACK Framework Activit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259092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98989"/>
                </a:solidFill>
                <a:latin typeface="Calibri"/>
              </a:rPr>
              <a:t>Using the TPACK Framework students will identify: content, pedagogy, and technology in a real school activity. Students will complete the TPACK Framework at the beginning of class. Revisit the process at the end of class and revisit/revise their TPACK Framework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Rectangle 3" descr=""/>
          <p:cNvPicPr/>
          <p:nvPr/>
        </p:nvPicPr>
        <p:blipFill>
          <a:blip r:embed="rId2"/>
          <a:stretch/>
        </p:blipFill>
        <p:spPr>
          <a:xfrm>
            <a:off x="719280" y="4827600"/>
            <a:ext cx="805320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PACK Framework Activit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Content Placeholder 3" descr="Tpack-contexts.jpg"/>
          <p:cNvPicPr/>
          <p:nvPr/>
        </p:nvPicPr>
        <p:blipFill>
          <a:blip r:embed="rId1"/>
          <a:stretch/>
        </p:blipFill>
        <p:spPr>
          <a:xfrm>
            <a:off x="2057400" y="1143000"/>
            <a:ext cx="5181480" cy="52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PACK Framework Activit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0492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ent knowledge-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merican History-Native Americ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dagogy Knowledge-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udents work in group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hnology Knowle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PACK 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20:17:26Z</dcterms:created>
  <dc:creator>sbswan02</dc:creator>
  <dc:description/>
  <dc:language>en-US</dc:language>
  <cp:lastModifiedBy>201g_29</cp:lastModifiedBy>
  <dcterms:modified xsi:type="dcterms:W3CDTF">2010-08-30T22:39:57Z</dcterms:modified>
  <cp:revision>6</cp:revision>
  <dc:subject/>
  <dc:title>TPACK Framework Activity </dc:title>
</cp:coreProperties>
</file>